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134-B77A-4D5F-88FF-70ACB286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07A-2BAE-4285-BC0E-296AF40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E73-3CF0-490E-9D84-7B146413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0CA-D22A-4888-B331-008452FD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49B-9FCA-44D4-9859-2DD9676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201-1A20-4344-858A-EA6AD30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EDC-71FE-4FD0-8D2C-5C6325E5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300-C1BC-41A7-8AA3-7CB0005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95A-229A-4EC8-9AA5-257D965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0B0-CEFC-4CCF-B531-89DA928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384-C0CF-4EAF-A784-5DF767B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A38-CC1B-4D12-B047-9D82D35A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923-C1E7-4A75-B736-181E150CC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19280" y="1125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125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59960" y="404640"/>
            <a:ext cx="59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тоги Всероссийской переписи населения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6:00:39Z</dcterms:created>
  <dc:creator>студент</dc:creator>
  <dc:description/>
  <dc:language>en-US</dc:language>
  <cp:lastModifiedBy>студент</cp:lastModifiedBy>
  <dcterms:modified xsi:type="dcterms:W3CDTF">2013-11-07T06:00:40Z</dcterms:modified>
  <cp:revision>1</cp:revision>
  <dc:subject/>
  <dc:title>Слайд 1</dc:title>
</cp:coreProperties>
</file>